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4.wmf" ContentType="image/x-wmf"/>
  <Override PartName="/ppt/media/image8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9.jpeg" ContentType="image/jpeg"/>
  <Override PartName="/ppt/media/bomb.wav" ContentType="audio/x-wav"/>
  <Override PartName="/ppt/media/image11.png" ContentType="image/png"/>
  <Override PartName="/ppt/media/image10.gif" ContentType="image/gif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8C4-B7C7-4191-AEAD-C020DB57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461B-21B0-480C-B2DA-F58863F5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1DE-645B-4FA4-8A9B-07C57473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3A9-104B-4071-BC1C-18F6247C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842-A2AE-4F9E-AC6E-B0D111B1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C0A1-D6BD-4863-89E5-C4E34BA8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E0C-2EBF-4084-9916-F95D4A0A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B64-D8BD-4D0E-BF79-FE2352B2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D08D-D3B0-406B-A678-493EF2AA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F09-CC3D-40AC-9666-F8463F59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D0D-EB93-4ACF-BA4B-9717E51E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A02-C5FC-4B08-B61C-4FFB0FD0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AAAD-D5F4-4358-A29C-5A9A0ECA7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4.xml"/><Relationship Id="rId13" Type="http://schemas.openxmlformats.org/officeDocument/2006/relationships/image" Target="../media/image4.wmf"/><Relationship Id="rId14" Type="http://schemas.openxmlformats.org/officeDocument/2006/relationships/slide" Target="slide5.xml"/><Relationship Id="rId15" Type="http://schemas.openxmlformats.org/officeDocument/2006/relationships/image" Target="../media/image5.png"/><Relationship Id="rId16" Type="http://schemas.openxmlformats.org/officeDocument/2006/relationships/slide" Target="slide6.xml"/><Relationship Id="rId17" Type="http://schemas.openxmlformats.org/officeDocument/2006/relationships/image" Target="../media/image6.jpeg"/><Relationship Id="rId18" Type="http://schemas.openxmlformats.org/officeDocument/2006/relationships/slide" Target="slide8.xml"/><Relationship Id="rId19" Type="http://schemas.openxmlformats.org/officeDocument/2006/relationships/image" Target="../media/image7.png"/><Relationship Id="rId20" Type="http://schemas.openxmlformats.org/officeDocument/2006/relationships/slide" Target="slide9.xml"/><Relationship Id="rId21" Type="http://schemas.openxmlformats.org/officeDocument/2006/relationships/image" Target="../media/image8.jpeg"/><Relationship Id="rId22" Type="http://schemas.openxmlformats.org/officeDocument/2006/relationships/slide" Target="slide7.xml"/><Relationship Id="rId23" Type="http://schemas.openxmlformats.org/officeDocument/2006/relationships/image" Target="../media/image9.jpeg"/><Relationship Id="rId24" Type="http://schemas.openxmlformats.org/officeDocument/2006/relationships/audio" Target="../media/bomb.wav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j0439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on the buttons to learn about our American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37120" y="6164280"/>
            <a:ext cx="22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reated by: dijob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>
            <a:hlinkClick r:id="rId2" action="ppaction://hlinksldjump"/>
          </p:cNvPr>
          <p:cNvSpPr/>
          <p:nvPr/>
        </p:nvSpPr>
        <p:spPr>
          <a:xfrm>
            <a:off x="1447920" y="2590920"/>
            <a:ext cx="1295280" cy="144756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447560"/>
              <a:gd name="textAreaBottom" fmla="*/ 1363680 h 1447560"/>
            </a:gdLst>
            <a:ahLst/>
            <a:rect l="textAreaLeft" t="textAreaTop" r="textAreaRight" b="textAreaBottom"/>
            <a:pathLst>
              <a:path w="21600" h="24139">
                <a:moveTo>
                  <a:pt x="0" y="0"/>
                </a:moveTo>
                <a:lnTo>
                  <a:pt x="21600" y="0"/>
                </a:lnTo>
                <a:lnTo>
                  <a:pt x="21600" y="24139"/>
                </a:lnTo>
                <a:lnTo>
                  <a:pt x="0" y="24139"/>
                </a:lnTo>
                <a:close/>
              </a:path>
              <a:path fill="lightenLess" w="21600" h="241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39">
                <a:moveTo>
                  <a:pt x="21600" y="0"/>
                </a:moveTo>
                <a:lnTo>
                  <a:pt x="21600" y="24139"/>
                </a:lnTo>
                <a:lnTo>
                  <a:pt x="20200" y="22739"/>
                </a:lnTo>
                <a:lnTo>
                  <a:pt x="20200" y="1400"/>
                </a:lnTo>
                <a:close/>
              </a:path>
              <a:path fill="darkenLess" w="21600" h="24139">
                <a:moveTo>
                  <a:pt x="21600" y="24139"/>
                </a:moveTo>
                <a:lnTo>
                  <a:pt x="0" y="24139"/>
                </a:lnTo>
                <a:lnTo>
                  <a:pt x="1400" y="22739"/>
                </a:lnTo>
                <a:lnTo>
                  <a:pt x="20200" y="22739"/>
                </a:lnTo>
                <a:close/>
              </a:path>
              <a:path fill="lighten" w="21600" h="24139">
                <a:moveTo>
                  <a:pt x="0" y="241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39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>
            <a:hlinkClick r:id="rId3" action="ppaction://hlinksldjump"/>
          </p:cNvPr>
          <p:cNvSpPr/>
          <p:nvPr/>
        </p:nvSpPr>
        <p:spPr>
          <a:xfrm>
            <a:off x="1447920" y="4267080"/>
            <a:ext cx="1295280" cy="144792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447920"/>
              <a:gd name="textAreaBottom" fmla="*/ 1364040 h 1447920"/>
            </a:gdLst>
            <a:ahLst/>
            <a:rect l="textAreaLeft" t="textAreaTop" r="textAreaRight" b="textAreaBottom"/>
            <a:pathLst>
              <a:path w="21600" h="24145">
                <a:moveTo>
                  <a:pt x="0" y="0"/>
                </a:moveTo>
                <a:lnTo>
                  <a:pt x="21600" y="0"/>
                </a:lnTo>
                <a:lnTo>
                  <a:pt x="21600" y="24145"/>
                </a:lnTo>
                <a:lnTo>
                  <a:pt x="0" y="24145"/>
                </a:lnTo>
                <a:close/>
              </a:path>
              <a:path fill="lightenLess" w="21600" h="24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5">
                <a:moveTo>
                  <a:pt x="21600" y="0"/>
                </a:moveTo>
                <a:lnTo>
                  <a:pt x="21600" y="24145"/>
                </a:lnTo>
                <a:lnTo>
                  <a:pt x="20200" y="22745"/>
                </a:lnTo>
                <a:lnTo>
                  <a:pt x="20200" y="1400"/>
                </a:lnTo>
                <a:close/>
              </a:path>
              <a:path fill="darkenLess" w="21600" h="24145">
                <a:moveTo>
                  <a:pt x="21600" y="24145"/>
                </a:moveTo>
                <a:lnTo>
                  <a:pt x="0" y="24145"/>
                </a:lnTo>
                <a:lnTo>
                  <a:pt x="1400" y="22745"/>
                </a:lnTo>
                <a:lnTo>
                  <a:pt x="20200" y="22745"/>
                </a:lnTo>
                <a:close/>
              </a:path>
              <a:path fill="lighten" w="21600" h="24145">
                <a:moveTo>
                  <a:pt x="0" y="24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5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>
            <a:hlinkClick r:id="rId4" action="ppaction://hlinksldjump"/>
          </p:cNvPr>
          <p:cNvSpPr/>
          <p:nvPr/>
        </p:nvSpPr>
        <p:spPr>
          <a:xfrm>
            <a:off x="3048120" y="4267080"/>
            <a:ext cx="1295280" cy="144792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447920"/>
              <a:gd name="textAreaBottom" fmla="*/ 1364040 h 1447920"/>
            </a:gdLst>
            <a:ahLst/>
            <a:rect l="textAreaLeft" t="textAreaTop" r="textAreaRight" b="textAreaBottom"/>
            <a:pathLst>
              <a:path w="21600" h="24145">
                <a:moveTo>
                  <a:pt x="0" y="0"/>
                </a:moveTo>
                <a:lnTo>
                  <a:pt x="21600" y="0"/>
                </a:lnTo>
                <a:lnTo>
                  <a:pt x="21600" y="24145"/>
                </a:lnTo>
                <a:lnTo>
                  <a:pt x="0" y="24145"/>
                </a:lnTo>
                <a:close/>
              </a:path>
              <a:path fill="lightenLess" w="21600" h="24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5">
                <a:moveTo>
                  <a:pt x="21600" y="0"/>
                </a:moveTo>
                <a:lnTo>
                  <a:pt x="21600" y="24145"/>
                </a:lnTo>
                <a:lnTo>
                  <a:pt x="20200" y="22745"/>
                </a:lnTo>
                <a:lnTo>
                  <a:pt x="20200" y="1400"/>
                </a:lnTo>
                <a:close/>
              </a:path>
              <a:path fill="darkenLess" w="21600" h="24145">
                <a:moveTo>
                  <a:pt x="21600" y="24145"/>
                </a:moveTo>
                <a:lnTo>
                  <a:pt x="0" y="24145"/>
                </a:lnTo>
                <a:lnTo>
                  <a:pt x="1400" y="22745"/>
                </a:lnTo>
                <a:lnTo>
                  <a:pt x="20200" y="22745"/>
                </a:lnTo>
                <a:close/>
              </a:path>
              <a:path fill="lighten" w="21600" h="24145">
                <a:moveTo>
                  <a:pt x="0" y="24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5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971800" y="2590920"/>
            <a:ext cx="1295280" cy="144756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447560"/>
              <a:gd name="textAreaBottom" fmla="*/ 1363680 h 1447560"/>
            </a:gdLst>
            <a:ahLst/>
            <a:rect l="textAreaLeft" t="textAreaTop" r="textAreaRight" b="textAreaBottom"/>
            <a:pathLst>
              <a:path w="21600" h="24139">
                <a:moveTo>
                  <a:pt x="0" y="0"/>
                </a:moveTo>
                <a:lnTo>
                  <a:pt x="21600" y="0"/>
                </a:lnTo>
                <a:lnTo>
                  <a:pt x="21600" y="24139"/>
                </a:lnTo>
                <a:lnTo>
                  <a:pt x="0" y="24139"/>
                </a:lnTo>
                <a:close/>
              </a:path>
              <a:path fill="lightenLess" w="21600" h="241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39">
                <a:moveTo>
                  <a:pt x="21600" y="0"/>
                </a:moveTo>
                <a:lnTo>
                  <a:pt x="21600" y="24139"/>
                </a:lnTo>
                <a:lnTo>
                  <a:pt x="20200" y="22739"/>
                </a:lnTo>
                <a:lnTo>
                  <a:pt x="20200" y="1400"/>
                </a:lnTo>
                <a:close/>
              </a:path>
              <a:path fill="darkenLess" w="21600" h="24139">
                <a:moveTo>
                  <a:pt x="21600" y="24139"/>
                </a:moveTo>
                <a:lnTo>
                  <a:pt x="0" y="24139"/>
                </a:lnTo>
                <a:lnTo>
                  <a:pt x="1400" y="22739"/>
                </a:lnTo>
                <a:lnTo>
                  <a:pt x="20200" y="22739"/>
                </a:lnTo>
                <a:close/>
              </a:path>
              <a:path fill="lighten" w="21600" h="24139">
                <a:moveTo>
                  <a:pt x="0" y="241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39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>
            <a:hlinkClick r:id="rId5" action="ppaction://hlinksldjump"/>
          </p:cNvPr>
          <p:cNvSpPr/>
          <p:nvPr/>
        </p:nvSpPr>
        <p:spPr>
          <a:xfrm>
            <a:off x="4572000" y="4267080"/>
            <a:ext cx="1295280" cy="144792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447920"/>
              <a:gd name="textAreaBottom" fmla="*/ 1364040 h 1447920"/>
            </a:gdLst>
            <a:ahLst/>
            <a:rect l="textAreaLeft" t="textAreaTop" r="textAreaRight" b="textAreaBottom"/>
            <a:pathLst>
              <a:path w="21600" h="24145">
                <a:moveTo>
                  <a:pt x="0" y="0"/>
                </a:moveTo>
                <a:lnTo>
                  <a:pt x="21600" y="0"/>
                </a:lnTo>
                <a:lnTo>
                  <a:pt x="21600" y="24145"/>
                </a:lnTo>
                <a:lnTo>
                  <a:pt x="0" y="24145"/>
                </a:lnTo>
                <a:close/>
              </a:path>
              <a:path fill="lightenLess" w="21600" h="24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5">
                <a:moveTo>
                  <a:pt x="21600" y="0"/>
                </a:moveTo>
                <a:lnTo>
                  <a:pt x="21600" y="24145"/>
                </a:lnTo>
                <a:lnTo>
                  <a:pt x="20200" y="22745"/>
                </a:lnTo>
                <a:lnTo>
                  <a:pt x="20200" y="1400"/>
                </a:lnTo>
                <a:close/>
              </a:path>
              <a:path fill="darkenLess" w="21600" h="24145">
                <a:moveTo>
                  <a:pt x="21600" y="24145"/>
                </a:moveTo>
                <a:lnTo>
                  <a:pt x="0" y="24145"/>
                </a:lnTo>
                <a:lnTo>
                  <a:pt x="1400" y="22745"/>
                </a:lnTo>
                <a:lnTo>
                  <a:pt x="20200" y="22745"/>
                </a:lnTo>
                <a:close/>
              </a:path>
              <a:path fill="lighten" w="21600" h="24145">
                <a:moveTo>
                  <a:pt x="0" y="24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5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>
            <a:hlinkClick r:id="rId6" action="ppaction://hlinksldjump"/>
          </p:cNvPr>
          <p:cNvSpPr/>
          <p:nvPr/>
        </p:nvSpPr>
        <p:spPr>
          <a:xfrm>
            <a:off x="6019920" y="4267080"/>
            <a:ext cx="1295280" cy="144792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447920"/>
              <a:gd name="textAreaBottom" fmla="*/ 1364040 h 1447920"/>
            </a:gdLst>
            <a:ahLst/>
            <a:rect l="textAreaLeft" t="textAreaTop" r="textAreaRight" b="textAreaBottom"/>
            <a:pathLst>
              <a:path w="21600" h="24145">
                <a:moveTo>
                  <a:pt x="0" y="0"/>
                </a:moveTo>
                <a:lnTo>
                  <a:pt x="21600" y="0"/>
                </a:lnTo>
                <a:lnTo>
                  <a:pt x="21600" y="24145"/>
                </a:lnTo>
                <a:lnTo>
                  <a:pt x="0" y="24145"/>
                </a:lnTo>
                <a:close/>
              </a:path>
              <a:path fill="lightenLess" w="21600" h="24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5">
                <a:moveTo>
                  <a:pt x="21600" y="0"/>
                </a:moveTo>
                <a:lnTo>
                  <a:pt x="21600" y="24145"/>
                </a:lnTo>
                <a:lnTo>
                  <a:pt x="20200" y="22745"/>
                </a:lnTo>
                <a:lnTo>
                  <a:pt x="20200" y="1400"/>
                </a:lnTo>
                <a:close/>
              </a:path>
              <a:path fill="darkenLess" w="21600" h="24145">
                <a:moveTo>
                  <a:pt x="21600" y="24145"/>
                </a:moveTo>
                <a:lnTo>
                  <a:pt x="0" y="24145"/>
                </a:lnTo>
                <a:lnTo>
                  <a:pt x="1400" y="22745"/>
                </a:lnTo>
                <a:lnTo>
                  <a:pt x="20200" y="22745"/>
                </a:lnTo>
                <a:close/>
              </a:path>
              <a:path fill="lighten" w="21600" h="24145">
                <a:moveTo>
                  <a:pt x="0" y="24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5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>
            <a:hlinkClick r:id="rId7" action="ppaction://hlinksldjump"/>
          </p:cNvPr>
          <p:cNvSpPr/>
          <p:nvPr/>
        </p:nvSpPr>
        <p:spPr>
          <a:xfrm>
            <a:off x="4495680" y="2590920"/>
            <a:ext cx="1295640" cy="1447560"/>
          </a:xfrm>
          <a:custGeom>
            <a:avLst/>
            <a:gdLst>
              <a:gd name="textAreaLeft" fmla="*/ 83880 w 1295640"/>
              <a:gd name="textAreaRight" fmla="*/ 1211760 w 1295640"/>
              <a:gd name="textAreaTop" fmla="*/ 83880 h 1447560"/>
              <a:gd name="textAreaBottom" fmla="*/ 1363680 h 1447560"/>
            </a:gdLst>
            <a:ahLst/>
            <a:rect l="textAreaLeft" t="textAreaTop" r="textAreaRight" b="textAreaBottom"/>
            <a:pathLst>
              <a:path w="21600" h="24132">
                <a:moveTo>
                  <a:pt x="0" y="0"/>
                </a:moveTo>
                <a:lnTo>
                  <a:pt x="21600" y="0"/>
                </a:lnTo>
                <a:lnTo>
                  <a:pt x="21600" y="24132"/>
                </a:lnTo>
                <a:lnTo>
                  <a:pt x="0" y="24132"/>
                </a:lnTo>
                <a:close/>
              </a:path>
              <a:path fill="lightenLess" w="21600" h="241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32">
                <a:moveTo>
                  <a:pt x="21600" y="0"/>
                </a:moveTo>
                <a:lnTo>
                  <a:pt x="21600" y="24132"/>
                </a:lnTo>
                <a:lnTo>
                  <a:pt x="20200" y="22732"/>
                </a:lnTo>
                <a:lnTo>
                  <a:pt x="20200" y="1400"/>
                </a:lnTo>
                <a:close/>
              </a:path>
              <a:path fill="darkenLess" w="21600" h="24132">
                <a:moveTo>
                  <a:pt x="21600" y="24132"/>
                </a:moveTo>
                <a:lnTo>
                  <a:pt x="0" y="24132"/>
                </a:lnTo>
                <a:lnTo>
                  <a:pt x="1400" y="22732"/>
                </a:lnTo>
                <a:lnTo>
                  <a:pt x="20200" y="22732"/>
                </a:lnTo>
                <a:close/>
              </a:path>
              <a:path fill="lighten" w="21600" h="24132">
                <a:moveTo>
                  <a:pt x="0" y="241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3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>
            <a:hlinkClick r:id="rId8" action="ppaction://hlinksldjump"/>
          </p:cNvPr>
          <p:cNvSpPr/>
          <p:nvPr/>
        </p:nvSpPr>
        <p:spPr>
          <a:xfrm>
            <a:off x="6019920" y="2590920"/>
            <a:ext cx="1295280" cy="144756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447560"/>
              <a:gd name="textAreaBottom" fmla="*/ 1363680 h 1447560"/>
            </a:gdLst>
            <a:ahLst/>
            <a:rect l="textAreaLeft" t="textAreaTop" r="textAreaRight" b="textAreaBottom"/>
            <a:pathLst>
              <a:path w="21600" h="24139">
                <a:moveTo>
                  <a:pt x="0" y="0"/>
                </a:moveTo>
                <a:lnTo>
                  <a:pt x="21600" y="0"/>
                </a:lnTo>
                <a:lnTo>
                  <a:pt x="21600" y="24139"/>
                </a:lnTo>
                <a:lnTo>
                  <a:pt x="0" y="24139"/>
                </a:lnTo>
                <a:close/>
              </a:path>
              <a:path fill="lightenLess" w="21600" h="241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39">
                <a:moveTo>
                  <a:pt x="21600" y="0"/>
                </a:moveTo>
                <a:lnTo>
                  <a:pt x="21600" y="24139"/>
                </a:lnTo>
                <a:lnTo>
                  <a:pt x="20200" y="22739"/>
                </a:lnTo>
                <a:lnTo>
                  <a:pt x="20200" y="1400"/>
                </a:lnTo>
                <a:close/>
              </a:path>
              <a:path fill="darkenLess" w="21600" h="24139">
                <a:moveTo>
                  <a:pt x="21600" y="24139"/>
                </a:moveTo>
                <a:lnTo>
                  <a:pt x="0" y="24139"/>
                </a:lnTo>
                <a:lnTo>
                  <a:pt x="1400" y="22739"/>
                </a:lnTo>
                <a:lnTo>
                  <a:pt x="20200" y="22739"/>
                </a:lnTo>
                <a:close/>
              </a:path>
              <a:path fill="lighten" w="21600" h="24139">
                <a:moveTo>
                  <a:pt x="0" y="241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39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6" descr="j0216590"/>
          <p:cNvPicPr/>
          <p:nvPr/>
        </p:nvPicPr>
        <p:blipFill>
          <a:blip r:embed="rId9"/>
          <a:stretch/>
        </p:blipFill>
        <p:spPr>
          <a:xfrm>
            <a:off x="1523880" y="2666880"/>
            <a:ext cx="1082880" cy="121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MCj04363740000[1]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743200" y="2666880"/>
            <a:ext cx="167652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MCj01544960000[1]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572000" y="2743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172200" y="2743200"/>
            <a:ext cx="979560" cy="1150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Mount Rushmore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1523880" y="434340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MCj04362220000[1]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648320" y="4343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MPj04010860000[1]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6095880" y="434340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MPj04027260000[1]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3124080" y="4343400"/>
            <a:ext cx="1143000" cy="1219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4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ors of the flag are red, white and b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50 stars to represent 5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13 stripes represent the first thirteen colon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j0219104"/>
          <p:cNvPicPr/>
          <p:nvPr/>
        </p:nvPicPr>
        <p:blipFill>
          <a:blip r:embed="rId1"/>
          <a:stretch/>
        </p:blipFill>
        <p:spPr>
          <a:xfrm>
            <a:off x="5181480" y="1066680"/>
            <a:ext cx="3676680" cy="35197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6">
            <a:hlinkClick r:id="" action="ppaction://hlinkshowjump?jump=firstslide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685800" y="594360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tue of Lib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was a gift from F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stands in New York Harb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151 feet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a symbol of freedom and democ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represented hope and freedom to the immigrants who came here from other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MCj04363740000[1]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6">
            <a:hlinkClick r:id="" action="ppaction://hlinkshowjump?jump=firstslide"/>
          </p:cNvPr>
          <p:cNvSpPr/>
          <p:nvPr/>
        </p:nvSpPr>
        <p:spPr>
          <a:xfrm>
            <a:off x="77724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838080" y="617220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ld Ea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ld eagle was chosen as a symbol for our country because it symbolizes courage, strength, and free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ld eagle can be seen in many places like the President’s flag, and it can be seen on a one dollar b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2511360" cy="281952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5">
            <a:hlinkClick r:id="" action="ppaction://hlinkshowjump?jump=firs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685800" y="594360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berty B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6172200" y="1905120"/>
            <a:ext cx="2500200" cy="29383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152280" y="1905120"/>
            <a:ext cx="6477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berty bell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found in Philadelphi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nsylvan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rang when congress signe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claration of Indepen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eighs about 2000 pounds and in 1846 a crack appe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>
            <a:hlinkClick r:id="" action="ppaction://hlinkshowjump?jump=firs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685800" y="594360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 Rush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ial in honor of Presidents Washington, Jefferson, Roosevelt, and Linco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-foot high 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by Gutzon Borglum in the Black Hills of South Dak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ount Rushmore"/>
          <p:cNvPicPr/>
          <p:nvPr/>
        </p:nvPicPr>
        <p:blipFill>
          <a:blip r:embed="rId1"/>
          <a:stretch/>
        </p:blipFill>
        <p:spPr>
          <a:xfrm>
            <a:off x="3048120" y="342900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6">
            <a:hlinkClick r:id="" action="ppaction://hlinkshowjump?jump=firstslide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609480" y="624852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9144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home of the Pres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located at 1600 Pennsylvania Avenue, Washington, D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e Washington is the only President who didn’t live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’s Office is called the Oval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MPj04027260000[1]"/>
          <p:cNvPicPr/>
          <p:nvPr/>
        </p:nvPicPr>
        <p:blipFill>
          <a:blip r:embed="rId1"/>
          <a:stretch/>
        </p:blipFill>
        <p:spPr>
          <a:xfrm>
            <a:off x="2971800" y="3505320"/>
            <a:ext cx="4114800" cy="27414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7">
            <a:hlinkClick r:id="" action="ppaction://hlinkshowjump?jump=firstslide"/>
          </p:cNvPr>
          <p:cNvSpPr/>
          <p:nvPr/>
        </p:nvSpPr>
        <p:spPr>
          <a:xfrm>
            <a:off x="76960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914400" y="647712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le S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ss adopted Uncle Sam as an official symbol in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best known for his army recruiting posters, which sai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Cj04362220000[1]"/>
          <p:cNvPicPr/>
          <p:nvPr/>
        </p:nvPicPr>
        <p:blipFill>
          <a:blip r:embed="rId1"/>
          <a:stretch/>
        </p:blipFill>
        <p:spPr>
          <a:xfrm>
            <a:off x="4495680" y="34290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082600" y="4419720"/>
            <a:ext cx="22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 want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>
            <a:hlinkClick r:id="" action="ppaction://hlinkshowjump?jump=firs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762120" y="624852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shington Mon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Pj04010860000[1]"/>
          <p:cNvPicPr/>
          <p:nvPr/>
        </p:nvPicPr>
        <p:blipFill>
          <a:blip r:embed="rId1"/>
          <a:stretch/>
        </p:blipFill>
        <p:spPr>
          <a:xfrm>
            <a:off x="2666880" y="990720"/>
            <a:ext cx="3606840" cy="28875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1143000" y="3886200"/>
            <a:ext cx="7010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built as a memorial to our first President, George Washing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eighs 90,854 t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ands nearly 556 feet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image is mirrored in the reflecting p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>
            <a:hlinkClick r:id="" action="ppaction://hlinkshowjump?jump=firstslide"/>
          </p:cNvPr>
          <p:cNvSpPr/>
          <p:nvPr/>
        </p:nvSpPr>
        <p:spPr>
          <a:xfrm>
            <a:off x="77724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990720" y="640080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23:09Z</dcterms:created>
  <dc:creator>dijobaker</dc:creator>
  <dc:description/>
  <dc:language>en-US</dc:language>
  <cp:lastModifiedBy>laura.arnold</cp:lastModifiedBy>
  <dcterms:modified xsi:type="dcterms:W3CDTF">2013-07-31T14:26:15Z</dcterms:modified>
  <cp:revision>13</cp:revision>
  <dc:subject/>
  <dc:title>American Symbols</dc:title>
</cp:coreProperties>
</file>